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7B1-1055-4655-89AC-B3E5EA43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4A0-645E-4EA5-A74D-BFBA1BB1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13F-7841-49E3-84B8-F1ACBDB2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D56-5BFE-4F0B-95B8-EBCD49B4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0CE-4F4F-4CC7-9F82-AF69ACF1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9D3-754D-48C8-834C-2C44DE69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5A5-EC45-4DED-B9EA-0E366B10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985-75D6-4A38-A657-113D503E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C02-EA08-44C9-9BD8-086E505F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6C1-498B-4A7F-807B-7F481322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72E-34A0-4A2F-BDCE-53B01949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A1D-3CF2-44B4-A48F-02B3B357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ECB3-A2A2-4EB6-938D-AA5D0E828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2 Božia milosť nezmerná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milosť nezmerná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šíra mora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golgotský kríž dokaz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Boh svetu daroval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ruč Otca víta sy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ý zradil rodný d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vinu už nespomí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íši kajúcnika st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milosť prevyš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zlet predstáv člove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ármutku ho poteš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sa ho nezrie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y kvapkou v mori bo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a ľútosť úprim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stále vol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ec s nami súcit m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22:29Z</dcterms:modified>
  <cp:revision>32</cp:revision>
  <dc:subject/>
  <dc:title>Je veľký náš Pán, on slávy je Kráľ Nech do všetkých strán  spev vrúcnych znie chvál.</dc:title>
</cp:coreProperties>
</file>